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38B0-B7FA-4C14-91FA-A1B9F37BC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8630-2FA9-491C-9891-930372E11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40F4-EC90-470B-8D2C-C6505ED40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E13D-091D-4543-A7C8-FB05F372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2961-3834-4D42-AB55-44191BD5D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A005-DF1E-4C92-971F-F80BD7A2A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5F97-453F-43EF-9C3B-F089A8A4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446F-E3A0-408E-9315-541774E6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1BC6-48C6-4593-9FCE-642F5B52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DAA4-C18E-4347-AACA-008D796C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998C-09DA-447E-B7A2-5F46ECA7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8033-4443-45B8-9918-1505F024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9979-323B-4063-AA83-B4397024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D423-EB43-428B-B3AF-C2226B98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993C-160C-4086-9DA6-59935EE54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3.jpeg"/><Relationship Id="rId7" Type="http://schemas.openxmlformats.org/officeDocument/2006/relationships/image" Target="../media/image2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81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adia Udd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Sadia Udd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Sadia Uddin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Sadia Uddin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Sadia Uddi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19520" y="1143000"/>
            <a:ext cx="83808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7"/>
          <p:cNvSpPr/>
          <p:nvPr/>
        </p:nvSpPr>
        <p:spPr>
          <a:xfrm>
            <a:off x="152280" y="3581280"/>
            <a:ext cx="160020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i nombre es Sadia Uddin. Yo tengo catorce años y vivo en New York. Yo soy joven y amo Uno Dirección y música. Yo soy tímida pero divertida. Yo soy encantadora y entusiástica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 no antipática.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o estoy no triste y activa.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2"/>
          <p:cNvSpPr/>
          <p:nvPr/>
        </p:nvSpPr>
        <p:spPr>
          <a:xfrm>
            <a:off x="68580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uree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4"/>
          <p:cNvSpPr/>
          <p:nvPr/>
        </p:nvSpPr>
        <p:spPr>
          <a:xfrm>
            <a:off x="152280" y="6400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enab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6"/>
          <p:cNvSpPr/>
          <p:nvPr/>
        </p:nvSpPr>
        <p:spPr>
          <a:xfrm flipH="1">
            <a:off x="1294560" y="5562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hfooz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819520" y="3886200"/>
            <a:ext cx="388620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Sad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nemos que ir a las 12 horas. Son las doce de la tarde cuando lo empiez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u tienes a comer tu popcorn. Nosotras estamos jove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.   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cembre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5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819520" y="3200400"/>
            <a:ext cx="388620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Nouree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ias, Sadia.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í, ¿a qué hora? Usted necesita su dinero y y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sesita mis diner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.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cembre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5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819520" y="2438280"/>
            <a:ext cx="3886200" cy="6858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Sad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tard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Noureen! ¿Puedes ir al cine? La cine están al final de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loque.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cembre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5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819520" y="45720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Noureen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ios, Te veré hay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Dicembre 6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819520" y="5181480"/>
            <a:ext cx="3886200" cy="6858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Sad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la dio una hoja y él dio una hoja también. Sus tarea es fácil y ello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jeron es divertida. Nosotras somos buena estudiantes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Dicembre 6, de 2012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819520" y="5943600"/>
            <a:ext cx="3886200" cy="6858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Mahfooz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uál es la tare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Dicembre 7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6"/>
          <p:cNvSpPr/>
          <p:nvPr/>
        </p:nvSpPr>
        <p:spPr>
          <a:xfrm>
            <a:off x="2819520" y="19051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ola! ¿Cómo estás ustede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2"/>
          <p:cNvSpPr/>
          <p:nvPr/>
        </p:nvSpPr>
        <p:spPr>
          <a:xfrm>
            <a:off x="154800" y="5715000"/>
            <a:ext cx="44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ia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0.png"/>
          <p:cNvPicPr/>
          <p:nvPr/>
        </p:nvPicPr>
        <p:blipFill>
          <a:blip r:embed="rId1"/>
          <a:stretch/>
        </p:blipFill>
        <p:spPr>
          <a:xfrm>
            <a:off x="152280" y="6019920"/>
            <a:ext cx="533520" cy="398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0.jpeg"/>
          <p:cNvPicPr/>
          <p:nvPr/>
        </p:nvPicPr>
        <p:blipFill>
          <a:blip r:embed="rId2"/>
          <a:stretch/>
        </p:blipFill>
        <p:spPr>
          <a:xfrm>
            <a:off x="685800" y="5334120"/>
            <a:ext cx="609480" cy="407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6" descr="0.jpeg"/>
          <p:cNvPicPr/>
          <p:nvPr/>
        </p:nvPicPr>
        <p:blipFill>
          <a:blip r:embed="rId3"/>
          <a:stretch/>
        </p:blipFill>
        <p:spPr>
          <a:xfrm>
            <a:off x="1371600" y="5334120"/>
            <a:ext cx="601560" cy="401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0.jpeg"/>
          <p:cNvPicPr/>
          <p:nvPr/>
        </p:nvPicPr>
        <p:blipFill>
          <a:blip r:embed="rId4"/>
          <a:stretch/>
        </p:blipFill>
        <p:spPr>
          <a:xfrm>
            <a:off x="2057400" y="3276720"/>
            <a:ext cx="609480" cy="407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" descr="image.jpeg"/>
          <p:cNvPicPr/>
          <p:nvPr/>
        </p:nvPicPr>
        <p:blipFill>
          <a:blip r:embed="rId5"/>
          <a:stretch/>
        </p:blipFill>
        <p:spPr>
          <a:xfrm>
            <a:off x="76320" y="5334120"/>
            <a:ext cx="533160" cy="399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6" descr="0.jpeg"/>
          <p:cNvPicPr/>
          <p:nvPr/>
        </p:nvPicPr>
        <p:blipFill>
          <a:blip r:embed="rId6"/>
          <a:stretch/>
        </p:blipFill>
        <p:spPr>
          <a:xfrm>
            <a:off x="2133720" y="6095880"/>
            <a:ext cx="601560" cy="401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0.jpeg"/>
          <p:cNvPicPr/>
          <p:nvPr/>
        </p:nvPicPr>
        <p:blipFill>
          <a:blip r:embed="rId7"/>
          <a:stretch/>
        </p:blipFill>
        <p:spPr>
          <a:xfrm>
            <a:off x="2057400" y="4648320"/>
            <a:ext cx="609480" cy="407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8" descr="0.png"/>
          <p:cNvPicPr/>
          <p:nvPr/>
        </p:nvPicPr>
        <p:blipFill>
          <a:blip r:embed="rId8"/>
          <a:stretch/>
        </p:blipFill>
        <p:spPr>
          <a:xfrm>
            <a:off x="-457200" y="414360"/>
            <a:ext cx="2819520" cy="1884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0" descr="0.png"/>
          <p:cNvPicPr/>
          <p:nvPr/>
        </p:nvPicPr>
        <p:blipFill>
          <a:blip r:embed="rId9"/>
          <a:stretch/>
        </p:blipFill>
        <p:spPr>
          <a:xfrm>
            <a:off x="1981080" y="2438280"/>
            <a:ext cx="914400" cy="61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1" descr="0.png"/>
          <p:cNvPicPr/>
          <p:nvPr/>
        </p:nvPicPr>
        <p:blipFill>
          <a:blip r:embed="rId10"/>
          <a:stretch/>
        </p:blipFill>
        <p:spPr>
          <a:xfrm>
            <a:off x="1981080" y="3886200"/>
            <a:ext cx="914400" cy="611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2" descr="0.png"/>
          <p:cNvPicPr/>
          <p:nvPr/>
        </p:nvPicPr>
        <p:blipFill>
          <a:blip r:embed="rId11"/>
          <a:stretch/>
        </p:blipFill>
        <p:spPr>
          <a:xfrm>
            <a:off x="1981080" y="5334120"/>
            <a:ext cx="914400" cy="61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3:26:25Z</dcterms:created>
  <dc:creator>FriscoISD</dc:creator>
  <dc:description/>
  <dc:language>en-US</dc:language>
  <cp:lastModifiedBy>NYCDOE</cp:lastModifiedBy>
  <dcterms:modified xsi:type="dcterms:W3CDTF">2012-12-07T14:06:27Z</dcterms:modified>
  <cp:revision>117</cp:revision>
  <dc:subject/>
  <dc:title>Profile</dc:title>
</cp:coreProperties>
</file>